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8F3-36BF-40ED-AD8C-E99911FD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49F-3E2D-4951-8829-03FEB3B5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307-0911-41FA-A011-5B6F055A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73A-711E-4D49-BEBF-32562AE9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1BAE-8841-449A-82E5-D98DA12D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527F-7F23-492E-BEB4-5106ABE0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8880-DB64-4428-B118-BD7E9EC6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2241-4AB6-46E1-94F4-88BC37FB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89D6-743C-4A98-A792-65E456A5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7E1F-20F8-4525-878C-A1E3EDF0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11A9-1B69-4B17-9A17-F25EEF63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E4F-1789-4C8F-ADCB-EF7E73C7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FE5A-66A0-46AE-8DE1-5B6B8180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0C8F-B5AC-4E56-AE54-45F1D548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677F-ECEC-4392-AA1E-DE438620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58B0-DE7C-43BC-A2F7-9DACE7E0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239E-BEEF-46E2-B204-02EA21C1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9F3-27BB-436A-AEB6-0B4F4C1C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536-F684-4F95-8556-B9E9A240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618-F919-445E-A8F6-221555B3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F10-CED2-4F24-94D4-A609B335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27E-94ED-4505-99D8-388B7A60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B1B-20C9-4AA4-B2DE-4A69564F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B2F-C542-465C-811F-9C0F3AD7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9989-6192-4CBB-BFD3-3F5F42C671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CAAE-6D54-43A2-BD68-B77F101302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Overtrai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90360" y="38095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. Noel McCaffr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cturer, Centre for Sport Science and Health, DCU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edical Director, O’Neills Sports Medicine, UCD &amp; DCU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mon symptoms of O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general fatig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lai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ergy (malais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thusia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rritable / restl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xio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petite chan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ight lo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p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cus / concent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agnostic difficult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agnosis of exclus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ifferent symptoms w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5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fferent individuals doing same same trai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5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ute vs chronic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performanc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5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olume vs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inten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5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ympathetic vs parasympathetic mode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5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durance vs ‘anaerobic’ overtrai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asympathetic overtrai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volume overload (resistance or enduranc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estosterone : cortisol rat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tig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p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ath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ting H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ympathetic overtrai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intensity overlo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omn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rrit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tless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lood press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veruse inju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internal 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ody ma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iomechani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nutr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echniq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fatig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external 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training volu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training intens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repet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otwe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quip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causes it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balance / mismat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rain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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exerci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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exercise capac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tres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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tress toler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itiating ev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olume / intensity of trai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notony of trai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lness (disease / infect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oric restriction /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carbohydrate intak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ron deficienc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ercise-heat str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sonal / emotional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ccupational str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iological mark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blood constitiu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emoglobin / hematocr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te c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r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lood lactate in submax / max exerci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estosterone / cortis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techolamines (resting / nocturn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rdiorespirat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ting / max heart r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art rate  / V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/ VE during exerci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al metabolic r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f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mmune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pper respiratory tract infection in OR / OT athleth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use or effec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auses of persistent fatigue and underperformance in spor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914400"/>
            <a:ext cx="3048120" cy="5884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ffeine withdraw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-induced asthm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on (+/- anaemi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anxiet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e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onucleo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p. resp tract infec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od disor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xiety / depress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838080"/>
            <a:ext cx="2590920" cy="597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 comm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bte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ting disorde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othyroidis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concuss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tance abu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 resp tract infe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de effects of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s / suppl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rbo / prote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914400"/>
            <a:ext cx="2590920" cy="5401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ocrine dise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renal gla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t dise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absor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ng dise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ignanc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al dise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omuscular   dise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vertrai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training / preparation challe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is the overtraining syndr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we understand the mechanism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g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eatment and preven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atigu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What is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ure to generate or maintain desired exercise inten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pheral mechanism (fuel deplet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entral mechanisms (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brain serotoni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re symptom of many illnes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16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Fatigue in ill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ral ill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aem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pothyroidi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poglycaem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ronic fatigue syndro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p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S and Major Depres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neral fatigue / malai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peti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rritable / restl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dy we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est / plea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centr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20574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eling hopeless / worthl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eling sa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sistent physical symptoms that fail to resp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icidal though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reatment and Preven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covery d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odi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arie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sure vol : intensity inverse relationshi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void high intensity over prolonged peri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void high intensity over prolonged peri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4956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resistence sessions, avoid completing every set of every exercise in every sess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void overworking one ar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void excess eccentric 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5943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? role for antidepressant med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76320" y="-10634760"/>
            <a:ext cx="7632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52480"/>
            <a:ext cx="2590920" cy="244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ice of exerci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of exerci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ume (sets x rep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nsity (% rep max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 (between set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09680"/>
            <a:ext cx="2209680" cy="1984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ur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 adapt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pheral (sport specific) adapt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training (injure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828800"/>
            <a:ext cx="2361960" cy="106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d gener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spe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4114800"/>
            <a:ext cx="2819520" cy="923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echnique repeti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5943600"/>
            <a:ext cx="20574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eam  pl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304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aining are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2670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challeng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vide continuous training stimulus with adequate variety, recovery, progression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acilitate optimum performance at the right time(s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void OT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inimise inju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overtraining syndro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a condition characterised b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formance in training / competition (incl technica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ffort required to deliver same perform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ilure to show progression / improv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spite maintained or increased trai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vertraining process 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overtraining syndr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ther word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lenes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ver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rnou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ronic fatigu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verfatigu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verstrai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85920" y="3200400"/>
            <a:ext cx="4973760" cy="1784520"/>
          </a:xfrm>
          <a:prstGeom prst="line">
            <a:avLst/>
          </a:prstGeom>
          <a:ln w="22320">
            <a:solidFill>
              <a:srgbClr val="ff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05120" y="3200400"/>
            <a:ext cx="0" cy="2362320"/>
          </a:xfrm>
          <a:prstGeom prst="line">
            <a:avLst/>
          </a:prstGeom>
          <a:ln w="1908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76440" y="3200400"/>
            <a:ext cx="6705720" cy="0"/>
          </a:xfrm>
          <a:prstGeom prst="line">
            <a:avLst/>
          </a:prstGeom>
          <a:ln w="2232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581280"/>
            <a:ext cx="0" cy="1981440"/>
          </a:xfrm>
          <a:prstGeom prst="line">
            <a:avLst/>
          </a:prstGeom>
          <a:ln w="1908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43400" y="4038480"/>
            <a:ext cx="0" cy="1524240"/>
          </a:xfrm>
          <a:prstGeom prst="line">
            <a:avLst/>
          </a:prstGeom>
          <a:ln w="1908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576440" y="1371600"/>
            <a:ext cx="0" cy="4191120"/>
          </a:xfrm>
          <a:prstGeom prst="line">
            <a:avLst/>
          </a:prstGeom>
          <a:ln w="22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81360" y="3200400"/>
            <a:ext cx="838080" cy="977760"/>
          </a:xfrm>
          <a:custGeom>
            <a:avLst/>
            <a:gdLst/>
            <a:ahLst/>
            <a:rect l="l" t="t" r="r" b="b"/>
            <a:pathLst>
              <a:path w="528" h="616">
                <a:moveTo>
                  <a:pt x="0" y="0"/>
                </a:moveTo>
                <a:cubicBezTo>
                  <a:pt x="124" y="220"/>
                  <a:pt x="248" y="440"/>
                  <a:pt x="336" y="528"/>
                </a:cubicBezTo>
                <a:cubicBezTo>
                  <a:pt x="424" y="616"/>
                  <a:pt x="476" y="572"/>
                  <a:pt x="528" y="528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19440" y="2349360"/>
            <a:ext cx="2209680" cy="1689120"/>
          </a:xfrm>
          <a:custGeom>
            <a:avLst/>
            <a:gdLst/>
            <a:ahLst/>
            <a:rect l="l" t="t" r="r" b="b"/>
            <a:pathLst>
              <a:path w="1392" h="1064">
                <a:moveTo>
                  <a:pt x="0" y="1064"/>
                </a:moveTo>
                <a:cubicBezTo>
                  <a:pt x="340" y="684"/>
                  <a:pt x="680" y="304"/>
                  <a:pt x="912" y="152"/>
                </a:cubicBezTo>
                <a:cubicBezTo>
                  <a:pt x="1144" y="0"/>
                  <a:pt x="1268" y="76"/>
                  <a:pt x="1392" y="152"/>
                </a:cubicBezTo>
              </a:path>
            </a:pathLst>
          </a:custGeom>
          <a:noFill/>
          <a:ln w="22320">
            <a:solidFill>
              <a:srgbClr val="ffff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14720" y="2743200"/>
            <a:ext cx="2210040" cy="1689120"/>
          </a:xfrm>
          <a:custGeom>
            <a:avLst/>
            <a:gdLst/>
            <a:ahLst/>
            <a:rect l="l" t="t" r="r" b="b"/>
            <a:pathLst>
              <a:path w="1392" h="1064">
                <a:moveTo>
                  <a:pt x="0" y="1064"/>
                </a:moveTo>
                <a:cubicBezTo>
                  <a:pt x="340" y="684"/>
                  <a:pt x="680" y="304"/>
                  <a:pt x="912" y="152"/>
                </a:cubicBezTo>
                <a:cubicBezTo>
                  <a:pt x="1144" y="0"/>
                  <a:pt x="1268" y="76"/>
                  <a:pt x="1392" y="152"/>
                </a:cubicBezTo>
              </a:path>
            </a:pathLst>
          </a:custGeom>
          <a:noFill/>
          <a:ln w="22320">
            <a:solidFill>
              <a:srgbClr val="ffff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76640" y="3581280"/>
            <a:ext cx="838080" cy="978120"/>
          </a:xfrm>
          <a:custGeom>
            <a:avLst/>
            <a:gdLst/>
            <a:ahLst/>
            <a:rect l="l" t="t" r="r" b="b"/>
            <a:pathLst>
              <a:path w="528" h="616">
                <a:moveTo>
                  <a:pt x="0" y="0"/>
                </a:moveTo>
                <a:cubicBezTo>
                  <a:pt x="124" y="220"/>
                  <a:pt x="248" y="440"/>
                  <a:pt x="336" y="528"/>
                </a:cubicBezTo>
                <a:cubicBezTo>
                  <a:pt x="424" y="616"/>
                  <a:pt x="476" y="572"/>
                  <a:pt x="528" y="528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95960" y="4038480"/>
            <a:ext cx="838080" cy="978120"/>
          </a:xfrm>
          <a:custGeom>
            <a:avLst/>
            <a:gdLst/>
            <a:ahLst/>
            <a:rect l="l" t="t" r="r" b="b"/>
            <a:pathLst>
              <a:path w="528" h="616">
                <a:moveTo>
                  <a:pt x="0" y="0"/>
                </a:moveTo>
                <a:cubicBezTo>
                  <a:pt x="124" y="220"/>
                  <a:pt x="248" y="440"/>
                  <a:pt x="336" y="528"/>
                </a:cubicBezTo>
                <a:cubicBezTo>
                  <a:pt x="424" y="616"/>
                  <a:pt x="476" y="572"/>
                  <a:pt x="528" y="528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76440" y="3581280"/>
            <a:ext cx="1547640" cy="0"/>
          </a:xfrm>
          <a:prstGeom prst="line">
            <a:avLst/>
          </a:prstGeom>
          <a:ln w="22320">
            <a:solidFill>
              <a:srgbClr val="00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76440" y="4038480"/>
            <a:ext cx="2766960" cy="0"/>
          </a:xfrm>
          <a:prstGeom prst="line">
            <a:avLst/>
          </a:prstGeom>
          <a:ln w="22320">
            <a:solidFill>
              <a:srgbClr val="00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76440" y="5562720"/>
            <a:ext cx="7238880" cy="0"/>
          </a:xfrm>
          <a:prstGeom prst="line">
            <a:avLst/>
          </a:prstGeom>
          <a:ln w="22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64440" y="427824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Session 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8200" y="4572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Session 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47520" y="50292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Session 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55800" y="3177360"/>
            <a:ext cx="20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Fitness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93560" y="57150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D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adequate reco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304920"/>
            <a:ext cx="213336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overlo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raining stimul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dequate recove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raining incre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appropriate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ff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304920"/>
            <a:ext cx="29718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over-reach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raining stimul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adequate recove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peated (+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) training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st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ull recovery in 2-3week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80880"/>
            <a:ext cx="297180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overtrain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raining stimul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adequate recove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peated (+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) training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o recovery with res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evalence of O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gns and symptoms of OT seen 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0% distance runners over a care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0% pro soccer players in a 5 month competitive sea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3% basketball players in a 6 week training cam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3:27:37Z</dcterms:created>
  <dc:creator>Noel McCaffrey</dc:creator>
  <dc:description/>
  <dc:language>en-US</dc:language>
  <cp:lastModifiedBy>Noel McCaffrey</cp:lastModifiedBy>
  <dcterms:modified xsi:type="dcterms:W3CDTF">2004-11-24T22:47:09Z</dcterms:modified>
  <cp:revision>21</cp:revision>
  <dc:subject/>
  <dc:title>Over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01890161</vt:r8>
  </property>
  <property fmtid="{D5CDD505-2E9C-101B-9397-08002B2CF9AE}" pid="3" name="_AuthorEmail">
    <vt:lpwstr>mccafs@eircom.net</vt:lpwstr>
  </property>
  <property fmtid="{D5CDD505-2E9C-101B-9397-08002B2CF9AE}" pid="4" name="_AuthorEmailDisplayName">
    <vt:lpwstr>Noel McCaffrey</vt:lpwstr>
  </property>
  <property fmtid="{D5CDD505-2E9C-101B-9397-08002B2CF9AE}" pid="5" name="_EmailSubject">
    <vt:lpwstr>Contact details</vt:lpwstr>
  </property>
</Properties>
</file>